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702-B35B-4EA7-8667-B27C03F9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D6E-B7AB-4061-BADC-6D24739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2C4-F02B-4EBF-8918-1371851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93D-9140-4D40-A99D-22D12CC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198-68F0-4CF3-9EF9-6F6ACC18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BA3-38D0-412F-B69E-FA2053D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13E-2DF8-4A45-A3A7-4385DD1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E3D-7F22-4240-AC76-0F03263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492-518B-44AA-B5E9-B12EF88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2FA-B46B-49F0-B610-D88A885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4BB-1E4C-4997-B091-118233A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E53-7C59-4E2E-AB37-8EB3258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76F67-9F13-488B-BC34-C3A8B3B88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54B9D-ABEA-4BA7-87DC-86114617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What is a cycl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phytoplankt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198360"/>
            <a:ext cx="785664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1260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alibri"/>
              </a:rPr>
              <a:t>2.8 Oxygen Cycle Class Notes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rcRect l="-99" t="0" r="-2658" b="0"/>
          <a:stretch/>
        </p:blipFill>
        <p:spPr>
          <a:xfrm>
            <a:off x="604800" y="355680"/>
            <a:ext cx="5141880" cy="460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819600" y="4680000"/>
            <a:ext cx="532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lants produce oxygen during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rcRect l="-99" t="0" r="-2658" b="0"/>
          <a:stretch/>
        </p:blipFill>
        <p:spPr>
          <a:xfrm>
            <a:off x="604800" y="355680"/>
            <a:ext cx="5141880" cy="4608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3819600" y="4680000"/>
            <a:ext cx="532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imals take oxygen out of the air during cellular respi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cellular respiration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photosynthesis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of Phytoplank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Phytoplankton produce oxygen during photosynthesi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 phytoplankton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animals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is process called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inish Water Cycle LP or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Oxygen Cycl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Guided Practice – Team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dependent Practice –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plants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is process called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phytoplankton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700" spc="-1" strike="noStrike" u="sng">
                <a:solidFill>
                  <a:srgbClr val="000000"/>
                </a:solidFill>
                <a:uFillTx/>
                <a:latin typeface="Calibri"/>
              </a:rPr>
              <a:t>2.8 Independent Practic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your weekly homework sheet.   Start working on completing the sections on the water cycle and the oxygen cy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fter today, you will be able to explain the oxygen cycle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0% Mastery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ig Ideas of Science – Systems and system mod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e Well Organiz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a gas changing into a liquid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a liquid changing into a ga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water evaporating from plant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water falling from cloud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1. What is photosynthesis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2. What is cellular respiration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3:06:11Z</dcterms:created>
  <dc:creator>Caroline Roth</dc:creator>
  <dc:description/>
  <dc:language>en-US</dc:language>
  <cp:lastModifiedBy>Caroline Roth</cp:lastModifiedBy>
  <dcterms:modified xsi:type="dcterms:W3CDTF">2010-09-22T13:53:56Z</dcterms:modified>
  <cp:revision>10</cp:revision>
  <dc:subject/>
  <dc:title>Slide 1</dc:title>
</cp:coreProperties>
</file>